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FE25-0663-4E58-8AEF-2EB1109A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0EB4-40B4-4DF1-B6AD-E04471A9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B20B-A46A-4E79-9C62-928B1EF3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4634-8D64-4024-87AD-C07191D1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55E-2EEC-4929-96AD-713FB47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07A3-E542-440F-AE2E-0C984731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0FF-D962-464D-9B2C-75EB0F7A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B9B3-98BC-4B89-B43B-BC6420619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EFC-0C65-4CFD-AF07-E4A7CB53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2C48-F1B8-4A60-A727-EB2962B1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FDAF-23BE-4054-A939-9A294EA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33B7-2D77-457E-ACCC-DBDF6E0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EE246-ADF1-41DB-96EF-CF61C31B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AkoepZtvaXg&amp;feature=related" TargetMode="External"/><Relationship Id="rId2" Type="http://schemas.openxmlformats.org/officeDocument/2006/relationships/hyperlink" Target="http://ca.youtube.com/watch?v=d-hEkyYUXSo&amp;feature=related" TargetMode="External"/><Relationship Id="rId3" Type="http://schemas.openxmlformats.org/officeDocument/2006/relationships/hyperlink" Target="http://ca.youtube.com/watch?v=x4WEqWlp29U&amp;feature=related" TargetMode="External"/><Relationship Id="rId4" Type="http://schemas.openxmlformats.org/officeDocument/2006/relationships/hyperlink" Target="http://ca.youtube.com/watch?v=dU5-AvyEgl0&amp;feature=related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AGlXPWSX1I&amp;feature=related" TargetMode="External"/><Relationship Id="rId2" Type="http://schemas.openxmlformats.org/officeDocument/2006/relationships/hyperlink" Target="http://www.youtube.com/watch?v=5pZj0u_XMbc" TargetMode="External"/><Relationship Id="rId3" Type="http://schemas.openxmlformats.org/officeDocument/2006/relationships/hyperlink" Target="http://www.youtube.com/watch?v=vUzTQWn-wfE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a.youtube.com/watch?v=KT7xJ0tjB4A&amp;NR=1" TargetMode="External"/><Relationship Id="rId2" Type="http://schemas.openxmlformats.org/officeDocument/2006/relationships/hyperlink" Target="http://www.youtube.com/watch?v=N7C14UIKuv8&amp;feature=related" TargetMode="External"/><Relationship Id="rId3" Type="http://schemas.openxmlformats.org/officeDocument/2006/relationships/hyperlink" Target="http://www.youtube.com/watch?v=Znby3t3AS5s" TargetMode="External"/><Relationship Id="rId4" Type="http://schemas.openxmlformats.org/officeDocument/2006/relationships/hyperlink" Target="http://www.youtube.com/watch?v=5MMWpeJ5dn4" TargetMode="External"/><Relationship Id="rId5" Type="http://schemas.openxmlformats.org/officeDocument/2006/relationships/hyperlink" Target="http://www.youtube.com/watch?v=wm0bIuAVmOA" TargetMode="External"/><Relationship Id="rId6" Type="http://schemas.openxmlformats.org/officeDocument/2006/relationships/hyperlink" Target="http://www.youtube.com/watch?v=CrxqTtiWxs4" TargetMode="External"/><Relationship Id="rId7" Type="http://schemas.openxmlformats.org/officeDocument/2006/relationships/hyperlink" Target="http://www.youtube.com/watch?v=EN-jCuV7BoU" TargetMode="External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Quantum Mecha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History, the Numbers, and the Periodic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”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4295520" cy="5610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0360" y="191628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are similar and one is clearly a wei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” Orbitals Shapes a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1814400"/>
            <a:ext cx="7286400" cy="38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562040" y="219240"/>
            <a:ext cx="601992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lectron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v-YeI4hcQ4&amp;NR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fv-YeI4hcQ4&amp;NR=1&amp;feature=fvw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8064360" cy="51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Number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1400040"/>
            <a:ext cx="794376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rends and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1700280"/>
            <a:ext cx="820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ment of the Periodic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AkoepZtvaXg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 Radi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a.youtube.com/watch?v=d-hEkyYUXSo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ization Energ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a.youtube.com/watch?v=x4WEqWlp29U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 Affin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a.youtube.com/watch?v=dU5-AvyEgl0&amp;feature=re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ends Challeng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ization energy is ALWAYS posi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information below and decide on a possible valence shell electron configuration that would satisfy the data the b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8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4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700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5 000 kJ/mol,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2 800 kJ/mo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History of the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is no longer a sphere (Dalton) or a planetary model (Bohr-Rutherfo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gAGlXPWSX1I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eter Weather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5pZj0u_XMb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utherford Gold Foi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vUzTQWn-w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Summary of Scientists in so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Wave-Particle D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e Broglie:  Matter can exist as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ohr and the Copenhagen Interpre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0000"/>
                </a:solidFill>
                <a:latin typeface="Arial"/>
              </a:rPr>
              <a:t>Compliment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79640" y="2852640"/>
            <a:ext cx="518472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5904000" cy="4452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Everyone was Confus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Diffraction of L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ppens when you walk through a doorframe?  Do you know your position and moment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at happens when light goes through a sl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ca.youtube.com/watch?v=KT7xJ0tjB4A&amp;NR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7628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antum Mechanics 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052640"/>
            <a:ext cx="82090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senberg Uncertainty Princi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a.youtube.com/watch?v=KT7xJ0tjB4A&amp;N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 De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youtube.com/watch?v=N7C14UIKuv8&amp;feature=rel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Mechanics s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youtube.com/watch?v=Znby3t3AS5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Wave D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youtube.com/watch?v=7GTCus7KTb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tum Numbers and the Periodic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youtube.com/watch?v=5MMWpeJ5dn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wers of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youtube.com/watch?v=wm0bIuAVm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rodinger’s 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youtube.com/watch?v=CrxqTtiWxs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youtube.com/watch?v=EN-jCuV7B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(BBC short with real c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65280" y="260280"/>
            <a:ext cx="6031080" cy="691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rbital Shapes and the Periodic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youtube.com/watch?v=5MMWpeJ5dn4&amp;feature=rel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721560" cy="583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57800" y="404640"/>
            <a:ext cx="358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” and “p”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13:36:31Z</dcterms:created>
  <dc:creator>FradkiL</dc:creator>
  <dc:description/>
  <dc:language>en-US</dc:language>
  <cp:lastModifiedBy>Teachers</cp:lastModifiedBy>
  <dcterms:modified xsi:type="dcterms:W3CDTF">2010-09-14T18:55:23Z</dcterms:modified>
  <cp:revision>15</cp:revision>
  <dc:subject/>
  <dc:title>Slide 1</dc:title>
</cp:coreProperties>
</file>